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0B1-D945-4683-AB05-9A7C99AD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977-DEAE-4069-9ADA-A95F175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578-F92F-4AEB-974C-6AC21FA1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F8D-D556-4124-A7E5-6B805DB0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48D-1E80-47CA-A74D-BE38D2E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630-3110-472C-A688-1D8AB63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F66-08EA-44F8-AA70-11D0F47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C81-033B-4A6A-AD7E-466D8C1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333-F65C-4EE2-9CF3-283A7776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A33-383A-45EF-9C64-0A3BD15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303-0919-4C1D-BC02-4B2C6C9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078-6EA5-42DB-9E5A-60646F88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B2D3-3549-45EC-8F86-214DB808EDC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6 Understanding Climate Patterns- Subarc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Dall Sh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helps them get around the uneven ground of the mountains where they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ll sheep are herbivores, in the summer when food is readily available they eat grass, leaves and twigs, herbs, and sh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winter lichen and moss are eaten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ve a dark brown coat, white legs, hoofed feet, and a dewlap, which is the loose skin in the ch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les have over-siz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lers that shed a re-gr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ry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686560" y="3790800"/>
            <a:ext cx="34290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oose is also an herbivore and eats 40 pounds of food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summer they eat willow, birch, and aspen twi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love to eat water plants such as lilly and pond w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winter months moose eat the needle leaves of coniferous forest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Red D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le has prom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lers that shed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fall, red deer grow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cker coat of hair and 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les grow neck 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342040" y="1197000"/>
            <a:ext cx="37814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Red D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other herbivore, red deer eat grass and the leaves of shrubs and trees. Bark is eaten in the win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Other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ssian Flying Squirr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rt Tailed Mongo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merican Lyn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2690640" cy="21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651640" y="3492360"/>
            <a:ext cx="2290680" cy="176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492360" y="5254560"/>
            <a:ext cx="2381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limate of the Subarctic sub-region is continental and cold-temperate with moist, short, cool summers and long, cold win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winter, temperatures can drop to −4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summer, the temperature may exceed +3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ever, the summers are short; no more than three months of the year (but at least one month) with an average temperature of 1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76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ay length is quite long with June days lasting  18.8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arctic regions are often characterized by taiga forest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2751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ils remain too saturated almost throughout the year to sustain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re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ominant vegetation is a peaty herbland dominated by grasses and sed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87640" y="4778280"/>
            <a:ext cx="214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cept for those areas adjacent to warm ocean currents, there is almost always continuous permafrost due to the very cold w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means that building in most subarctic regions is very difficult and expensive: cities are very f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important consequence is that transportation tends to be restricted to "bush" planes, helicopters and, in summer, river bo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Dall Sh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ite to grayish coloured hollow f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have large cur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r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re hoof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788000" y="3286080"/>
            <a:ext cx="4356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07:46Z</dcterms:created>
  <dc:creator>Jason</dc:creator>
  <dc:description/>
  <dc:language>en-US</dc:language>
  <cp:lastModifiedBy>Jason</cp:lastModifiedBy>
  <dcterms:modified xsi:type="dcterms:W3CDTF">2010-10-04T17:52:43Z</dcterms:modified>
  <cp:revision>6</cp:revision>
  <dc:subject/>
  <dc:title>1.5 Understanding Climate Patterns- Subarctic</dc:title>
</cp:coreProperties>
</file>